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A7E0-1EC6-482A-9712-000E14F49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caj 2006, iskljucen sa takmicenja u Tour de Franc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 er utice na tvaranje krvnih eliaj, HEMATOPETIN, dovodi do povecanaj  hematokr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A izuzetno sk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DB04-6918-437D-A094-D4C54EF33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B1FC-852B-4312-BA57-AC21E277E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50B-625F-49DD-934A-8A2BD7D70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torijski najvazniji predstavnik je AMFETAMIN, poznat od 1939, slucajno pronadj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 Umro je biciklista Knut Jan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 smrtni slucaj Tom Simpo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0B67-BB7D-43C5-8142-1EB4EABE1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vni doping zabranjen 1984, odlukom Mo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ziste vredno 2 miliona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F24A-5A87-471E-8F42-8DEAD71B9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3E67-7714-4C46-9C4E-131A10775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dovoljna informisanost o listi zabranjenih sredstava pokazana u oba 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5EC-813D-416F-B964-F9E978828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caj 2006, iskljucen sa takmicenja u Tour de 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B6CB-F05B-4009-9657-33B17C4C7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BF4-9311-4876-9B7A-363F6B00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143-1116-48E6-9B09-44AA63DB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319-C75E-443E-8B93-AC064A2B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FFC-8E00-4D10-A74A-DCC46C83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4D1-1C1E-4478-BACE-608D463A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80E-B885-4C11-AAC9-A3BF96FB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004-43B0-4E7D-A91F-FE685D5F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399-3CB1-493A-8AC8-3C949EA9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BD0-BAD7-43AE-B8FD-272A2B7F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811-16D9-4259-8FC2-B5B69B8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130-18CD-4BD4-816B-E59542DA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F76-9D7B-42B6-ADB0-085C1808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0556-9603-4966-8F18-B37FCD8C2BC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ada-ama.org/rtecontent/document/2009_Prohibited_List_ENG_Final_20_Sept_08.pdf" TargetMode="External"/><Relationship Id="rId2" Type="http://schemas.openxmlformats.org/officeDocument/2006/relationships/hyperlink" Target="http://www.ausport.gov.au/ais/" TargetMode="External"/><Relationship Id="rId3" Type="http://schemas.openxmlformats.org/officeDocument/2006/relationships/hyperlink" Target="http://www.ausport.gov.au/ais/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14716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мена  дијететских суплемената код спортиста. Специфичности примене дијететских суплемената у односу на пол, старосну доб и врсту спорт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МЕНА СУПЛЕМЕНАТА У ИСХРАНИ И ДОПИНГ У СПОРТ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Хормони и сродне супстанце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хормон раста, еритропоетин, инсулин и кортикотроп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Деловање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повећање мишићне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масе, крвних ћелија, убрзање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метаболизма ћел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Нежељени ефекти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акромегалија,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метаболичке промене,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неуролошке абнормал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HGH_baseball"/>
          <p:cNvPicPr/>
          <p:nvPr/>
        </p:nvPicPr>
        <p:blipFill>
          <a:blip r:embed="rId1"/>
          <a:stretch/>
        </p:blipFill>
        <p:spPr>
          <a:xfrm>
            <a:off x="0" y="289548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0" y="0"/>
            <a:ext cx="91440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9" descr="Body_building"/>
          <p:cNvPicPr/>
          <p:nvPr/>
        </p:nvPicPr>
        <p:blipFill>
          <a:blip r:embed="rId1"/>
          <a:stretch/>
        </p:blipFill>
        <p:spPr>
          <a:xfrm>
            <a:off x="5486400" y="1676520"/>
            <a:ext cx="3657600" cy="5181480"/>
          </a:xfrm>
          <a:prstGeom prst="rect">
            <a:avLst/>
          </a:prstGeom>
          <a:ln w="0">
            <a:noFill/>
          </a:ln>
        </p:spPr>
      </p:pic>
      <p:sp>
        <p:nvSpPr>
          <p:cNvPr id="95" name="Content Placeholder 2"/>
          <p:cNvSpPr/>
          <p:nvPr/>
        </p:nvSpPr>
        <p:spPr>
          <a:xfrm>
            <a:off x="0" y="1752480"/>
            <a:ext cx="5486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Β-агонисти-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кленбутеро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ћање мишићне масе, анаболик, липолит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убрзани раст срца, инфаркт, психоз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Comic Sans MS"/>
              </a:rPr>
              <a:t>смртни случајеви-боди билди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4648320" y="49528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нтиестрогени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кломиф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абол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јетра, вид, ко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иуретици и други маскирајући агенси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уросемид/финастер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стизање телесне масе у борилачким спортовима/маскирање других допинг сред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умор, грчеви, повраћање, поремећај 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Стимуланси –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амфетамин, ефедрин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(на листи се налази 60 супстанци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⃰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повећава концентрацију и пажњу, смањује бо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– убрзани срчани рад, хипертензија рабдомиолиза,  мождани,  срчани уда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9" descr="Before+After-2"/>
          <p:cNvPicPr/>
          <p:nvPr/>
        </p:nvPicPr>
        <p:blipFill>
          <a:blip r:embed="rId1"/>
          <a:stretch/>
        </p:blipFill>
        <p:spPr>
          <a:xfrm>
            <a:off x="2438280" y="4572000"/>
            <a:ext cx="365760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1219320" y="5410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14400" y="3733920"/>
            <a:ext cx="7315200" cy="11912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...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⃰и друге супстанце са слицном хемијском структуром и сличним биолошким ефект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а М1- побољшање транспорта кисео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Крвни допинг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Вештачко побољшање узимања, транспорта и испоруке кисео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цање конц. 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VO2 m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мали, кожна реакција, алер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утолога трансфузија се не мозе детектовати!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а М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генски доп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-152280" y="175248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Антидопинг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агенција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Републике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Србије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бављ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онтрол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еђународним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ционалним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акмичењим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зван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2006.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годин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ред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ционалних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их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социјациј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нти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генциј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Републик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рбиј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ровођењ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онтрол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отеклом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ериод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нгажовал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еђународн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федерациј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шт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FIBA, UIAA, IAAF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руг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10" descr="http://t2.gstatic.com/images?q=tbn:ANd9GcSVTQb9MgrliQAyHjR_lyeqb2p1HWH4Im4dAksN2O6EiG9d-XFz1A"/>
          <p:cNvPicPr/>
          <p:nvPr/>
        </p:nvPicPr>
        <p:blipFill>
          <a:blip r:embed="rId1"/>
          <a:stretch/>
        </p:blipFill>
        <p:spPr>
          <a:xfrm>
            <a:off x="2514600" y="0"/>
            <a:ext cx="4267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ржавањ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нерге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внотеж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талног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нача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тимал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форман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идратаци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љу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ржав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со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но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ељ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корист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вак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гућност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орава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з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говарајућ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хра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м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ве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ерв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околадиц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соки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држаје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те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т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преда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енир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аж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моћ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еир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хра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енинг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колико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реб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Корисн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лин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9520" y="14479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ttp://www.adas.org.rs/dokumenti/podzakonski-akti/pravilnik-o-lzs-2010.pd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wada-ama.org/rtecontent/document/2009_Prohibited_List_ENG_Final_20_Sept_08.pd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usport.gov.au/ais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t2.gstatic.com/images?q=tbn:ANd9GcSVTQb9MgrliQAyHjR_lyeqb2p1HWH4Im4dAksN2O6EiG9d-XFz1A"/>
          <p:cNvPicPr/>
          <p:nvPr/>
        </p:nvPicPr>
        <p:blipFill>
          <a:blip r:embed="rId4"/>
          <a:stretch/>
        </p:blipFill>
        <p:spPr>
          <a:xfrm>
            <a:off x="6172200" y="0"/>
            <a:ext cx="266688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o-doping"/>
          <p:cNvPicPr/>
          <p:nvPr/>
        </p:nvPicPr>
        <p:blipFill>
          <a:blip r:embed="rId5"/>
          <a:stretch/>
        </p:blipFill>
        <p:spPr>
          <a:xfrm>
            <a:off x="0" y="990720"/>
            <a:ext cx="3733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спор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orld Anti-Doping Co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20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HIBITED LI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A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ficial text of the Prohibited List shall be maint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t3.gstatic.com/images?q=tbn:ANd9GcQ35R3BOUy1F2Q9wD3Krpp7NJHN2o1rQb802uwkC4PAWOZ58YKMDw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434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6235560" y="5265720"/>
            <a:ext cx="29084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спор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9144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упстанц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метод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портист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вод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ефе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реднос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днос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ривал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бзир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тренин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талена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озн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јо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таро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Грчко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Рим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t3.gstatic.com/images?q=tbn:ANd9GcQ35R3BOUy1F2Q9wD3Krpp7NJHN2o1rQb802uwkC4PAWOZ58YKMDw"/>
          <p:cNvPicPr/>
          <p:nvPr/>
        </p:nvPicPr>
        <p:blipFill>
          <a:blip r:embed="rId1"/>
          <a:stretch/>
        </p:blipFill>
        <p:spPr>
          <a:xfrm>
            <a:off x="0" y="37339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886200" y="3774960"/>
            <a:ext cx="5257800" cy="276084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963. </a:t>
            </a:r>
            <a:r>
              <a:rPr b="0" lang="sr-RS" sz="2600" spc="-1" strike="noStrike">
                <a:solidFill>
                  <a:srgbClr val="000000"/>
                </a:solidFill>
                <a:latin typeface="Comic Sans MS"/>
              </a:rPr>
              <a:t>Прва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omic Sans MS"/>
              </a:rPr>
              <a:t>дефиниц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упстанц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аруша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портск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етик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вод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обољшањ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пособнос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атофизиолошко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сихичко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арушавањ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здрављ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400" spc="-1" strike="noStrike">
                <a:solidFill>
                  <a:srgbClr val="000000"/>
                </a:solidFill>
                <a:latin typeface="Comic Sans MS"/>
              </a:rPr>
              <a:t>Ризици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400" spc="-1" strike="noStrike">
                <a:solidFill>
                  <a:srgbClr val="000000"/>
                </a:solidFill>
                <a:latin typeface="Comic Sans MS"/>
              </a:rPr>
              <a:t>суплементације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400" spc="-1" strike="noStrike">
                <a:solidFill>
                  <a:srgbClr val="000000"/>
                </a:solidFill>
                <a:latin typeface="Comic Sans MS"/>
              </a:rPr>
              <a:t>спорту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епознавањ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очекивано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дел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Контаминациј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суплеменат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недозвољеним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супстанц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еобучеснос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тренер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лекар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портист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деловању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уплем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ачи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дис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теретан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Листа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контаминената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дс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забрање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стран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MOK-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6765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Ефед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трихн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ндростендио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ндростендиол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ехидроепиандросте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19-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орандростендио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19-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орандростендиол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зитива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тест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метаболит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андрол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Нандролон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15 %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тестираних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г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адржавало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личин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овољној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каж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зитивн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реакциј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Информисаност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о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листи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забрањених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средст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1714680"/>
            <a:ext cx="3952800" cy="111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4"/>
          <p:cNvGraphicFramePr/>
          <p:nvPr/>
        </p:nvGraphicFramePr>
        <p:xfrm>
          <a:off x="685800" y="3733920"/>
          <a:ext cx="800100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733920"/>
                    <a:ext cx="8001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5072040" y="1285920"/>
          <a:ext cx="3149640" cy="217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2040" y="1285920"/>
                    <a:ext cx="314964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Box 6"/>
          <p:cNvSpPr/>
          <p:nvPr/>
        </p:nvSpPr>
        <p:spPr>
          <a:xfrm>
            <a:off x="1676880" y="1071720"/>
            <a:ext cx="77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6105960" y="1071720"/>
            <a:ext cx="77184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Званич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зјав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УК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порт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употреб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дијететских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уплем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22860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УК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пор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ританс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лимпијс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Асоцијац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О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ританс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араолимпијс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Асоцијац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П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ационал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Институ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Медицин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порт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СМ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me Country Sports Councils (HCSC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ublished by RFUW Press Off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Савет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спортистима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УК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употреби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суплемен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портисти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авету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уд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изузетн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базрив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рилико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употреб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ил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ког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ијететског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уплемент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осто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икакв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гаранци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уплемент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укључујућ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витами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минерал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ергоге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р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ст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иљ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уплемен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адрж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забрањен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упстанц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бзиро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в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розвод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ис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одрвгнут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триктни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тандарди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роизводн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бележавањ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бодре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леков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DA International Symposi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Supplements in 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2908440" cy="159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0" y="14479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јпознатија допинг сре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14400"/>
            <a:ext cx="5943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наболи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и  стероид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тестостерон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анабол, нандрололон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већање мишић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наге и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метаболизам масти, 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наш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ћана агресивност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ВО,  стерилит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11" descr="steroids"/>
          <p:cNvPicPr/>
          <p:nvPr/>
        </p:nvPicPr>
        <p:blipFill>
          <a:blip r:embed="rId1"/>
          <a:stretch/>
        </p:blipFill>
        <p:spPr>
          <a:xfrm>
            <a:off x="5934240" y="914400"/>
            <a:ext cx="3209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8:58:44Z</dcterms:created>
  <dc:creator>brizita</dc:creator>
  <dc:description/>
  <dc:language>en-US</dc:language>
  <cp:lastModifiedBy>Vladimir Jakovljevic</cp:lastModifiedBy>
  <dcterms:modified xsi:type="dcterms:W3CDTF">2018-10-29T07:35:35Z</dcterms:modified>
  <cp:revision>57</cp:revision>
  <dc:subject/>
  <dc:title>SPORTSKA ISHRANA</dc:title>
</cp:coreProperties>
</file>