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5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4.wmf" ContentType="image/x-wmf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0.png" ContentType="image/png"/>
  <Override PartName="/ppt/media/image31.png" ContentType="image/png"/>
  <Override PartName="/ppt/media/image6.png" ContentType="image/png"/>
  <Override PartName="/ppt/media/image8.jpeg" ContentType="image/jpeg"/>
  <Override PartName="/ppt/media/image39.jpeg" ContentType="image/jpeg"/>
  <Override PartName="/ppt/media/image45.jpeg" ContentType="image/jpeg"/>
  <Override PartName="/ppt/media/image37.wmf" ContentType="image/x-wmf"/>
  <Override PartName="/ppt/media/image34.png" ContentType="image/png"/>
  <Override PartName="/ppt/media/image40.jpeg" ContentType="image/jpeg"/>
  <Override PartName="/ppt/media/image44.jpeg" ContentType="image/jpeg"/>
  <Override PartName="/ppt/media/image28.png" ContentType="image/png"/>
  <Override PartName="/ppt/media/image38.jpeg" ContentType="image/jpeg"/>
  <Override PartName="/ppt/media/image42.jpeg" ContentType="image/jpeg"/>
  <Override PartName="/ppt/media/image13.png" ContentType="image/png"/>
  <Override PartName="/ppt/media/image36.wmf" ContentType="image/x-wmf"/>
  <Override PartName="/ppt/media/image43.jpeg" ContentType="image/jpeg"/>
  <Override PartName="/ppt/media/image5.png" ContentType="image/png"/>
  <Override PartName="/ppt/media/image35.png" ContentType="image/png"/>
  <Override PartName="/ppt/media/image7.png" ContentType="image/png"/>
  <Override PartName="/ppt/media/image22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EEFA-61DB-460B-B076-56885AC33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E4D5-A888-44BC-8979-27E59A162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OBRO DIZAJNIRANA DIJETA PODRAZUMEVA OPTIMALAN UNOS ENERGUIJE; GRADIVNIH I ZAŠTITNIH SUPSTANCI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0C65-6518-49A5-9B75-F8179EE6B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01E3-2E5F-4B65-9967-51C8DF342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analysis of supplement use, pooling 51 studies involving 10,274 athletes at all levels in 15 sports showed an overall prevalence of supplement use of 46%, with most studies showing a prevalence greater than 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a slajdu prikzana frekvenca korišćenja suplemenata i distribucija po sportovima. Jasan trend korišćenja suplementa prikazan u obe studije, kao i visoka učestalost upojedinačnim sportov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67BB-261F-442D-8F81-42E358162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vi rad potvrđuje visoku učestalost korišćenja vitamina i minerala, pre svega vitamina C, magnezijuma, kalcijuma i multivitam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47E9-7CFE-4BAA-B951-75E6EA65D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DECA-4393-42E5-9641-771EA8DB4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edovoljna informisanost o listi zabranjenih sredstava pokazana u oba 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E9B0-2AB8-4989-B0E4-DC104D5DC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ucaj 2006, iskljucen sa takmicenja u Tour de F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1B92-AA7C-4606-B4A8-1B19924B8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ucaj 2006, iskljucen sa takmicenja u Tour de Franc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 er utice na tvaranje krvnih eliaj, HEMATOPETIN, dovodi do povecanaj  hematokr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A izuzetno sk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33DC-BC9B-4E02-8E34-91B83A24C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F845-BE85-4043-9A10-1F2479FB6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0557-D256-4603-B40A-8F7097FE6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torijski najvazniji predstavnik je AMFETAMIN, poznat od 1939, slucajno pronadj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0 Umro je biciklista Knut Jan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7 smrtni slucaj Tom Simpo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BD9F-AF0F-4685-95DF-D09D6D2A8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vni doping zabranjen 1984, odlukom Mo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ziste vredno 2 miliona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0419-A2E6-4A16-AB7E-C54A79266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5AB-71DD-43AC-9D75-303BC5F3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FB1-72DC-4641-988C-88951458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38347-1C70-4ED6-A2E9-95AB9746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71E37-438E-4CD5-912E-BA34E598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AF7F7-25FE-4DC7-B227-B1872010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636B0-39A1-4AC7-AACD-6192CD21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93484-BDA9-4573-98E9-6396CE8A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21D2A-9B9D-4AA3-B85D-938C015B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64C67-A0BC-4FE4-9305-C0E0595F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AD796-2654-4C6F-B669-FA6CDA93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C1649-EBFA-4B87-AA36-94BA520B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26837-777D-45CD-8754-5E45F6E9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7CC1-6491-4FEB-9CF9-16CB4CF7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6C120-C130-4E61-85A1-BD8547CE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3BAF6-C772-4091-9332-E3251998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977FF-30A2-41B1-B9A1-EB783261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7C887-45EF-412B-8E32-CF8E1C73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8D038-AFEA-4AF3-9ADB-5E7AC881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E491B-0E6F-47C0-8429-7A43434B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22875-071D-4D2F-B6C6-6FD97368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F9628-3CB8-4A68-B472-F1C0EA17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06C40-10E3-4FD5-BBEB-101D0C61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41AD8-855A-4F74-BB81-45F56CE7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39A4-2518-41E0-AE5D-CAB9178F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8B141-6AD0-428D-AD00-B1B8F387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5ED69-6C8E-437B-A1D5-935BF72F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8E90B-7FB5-46AD-B168-682809F8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6315B-0B6F-40CF-BF5C-87067B85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A1352-17E3-4685-B220-C54FE63C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4E2E6-9722-4ACA-B0E1-6962EAF1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32946-698A-44E6-A554-F87CA716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1D232-7AC8-4B94-9D81-F116751B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B4134-FC04-4853-84EC-52348C2B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8A4CE-00BC-4651-A959-54D6A9EB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8605-04D0-4404-9D8A-9C290595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9FE72-892C-489C-967F-4B07919A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702EB-B887-4C9B-B8CE-CD13AF70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5489C-7917-4A84-821F-29E7E286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6611-3E20-48EF-8D53-4674E52C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5CDF-8D2A-46C6-927C-B4D61164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DB9B-E559-440D-8670-48AEFB36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46BB-3455-405F-9D30-7D729C8D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F04B-BEA1-4F72-957E-3C2B2770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6498-7F0F-461D-AEE6-19689901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2CE-2439-479D-AE34-F39DFB87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76A8-D971-4B2B-B8E8-03FFD352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7AF7-3F23-4CF2-912A-5B35A7AC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7100-102E-45AB-B155-8B7DEF9B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4B5F-C6EC-443F-B284-0E927BA3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0CAF-2ACF-45EF-865C-C289CFA3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B38D6-7F4B-4F12-8798-8D4FF539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6DE72-DAE7-4F0A-A96F-43ED725F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95904-59DB-42F4-8321-41677507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3CBC-0ECD-4792-A422-1B44A9F6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AD105-139D-455E-A729-43AC44EC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744-0AB8-41C3-8D43-07ED0B07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5CA11-2CE4-42BF-82DB-366C5FFD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901B6-6EAF-4735-A5CE-84C91135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822AF-DA62-4A53-A2F4-4E049214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AE988-D12C-4C7E-8EF6-EB33A009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A71E0-94D0-4F1D-A2AB-4855FCD8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D0D3A-1501-48D4-8F4F-57ABC365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86D9A-3692-4CF0-8348-32465BCF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532CA-7725-43C2-8AC6-CE9DE5A5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1A90B-AEFE-44B7-8028-EC4014EE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38DBD-B37F-4582-B56C-1E2D845D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F7C-ADE5-4B00-B93D-9390D469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F36E1-4F74-4F31-A891-79E4A21A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154BB-96F8-4DDC-B9E3-3C807779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05382-8DD5-4E05-A5DC-0BE41536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EE608-9745-424F-939D-89802F12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DDD0B-79C5-41B0-988E-7F315480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5DFEC-2DB1-4A65-B05D-13BCB5E2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A64CF-182B-4E38-8CFE-E32BC019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3EAE0-9477-40F9-A2AF-85CBA7AB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0D665-297F-416B-BF4D-6B206DC7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AFFD7-EAB6-4C61-88A5-E3B451C9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D75-F7C2-45B8-9C4D-48990284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918BB-EC52-488C-97AE-D7591A6E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75FE2-D999-4572-BCD3-D71A9CB4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C96E0-7B1B-43E8-9488-EA3EF448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AD389-12EB-48FF-8264-543735B5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5AC09-63CB-415B-A774-8DBC04E5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0DB9A-DE43-4545-8997-AC7F4A3B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D7736-44FE-4C50-B763-204FC786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2D55F-2365-4B25-B4BC-A483AE3E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5A666-C4DB-4C4D-A9B8-62420752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1D5CF-61DB-45B5-AE00-04B2D215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0A1-7696-4975-AA7A-0A2B3B38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57B28-CDE1-44F4-99C3-6A1148F8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EE7E4-89D0-4367-83DC-FA9D69D6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F4CC5-5B9B-41B6-90FC-34A7D16B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805DE-A207-464D-8DF8-A7C3A5B1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93603-8519-46F0-9564-87FA5C72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E3EA8-2F94-43F4-9478-680870AC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B6017-4E6E-41BD-8BF4-CFA60372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692EB-82DA-4E99-AD87-9F8634C5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63E77-C89A-465B-B2ED-8BCB2DAF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E7F9F-995E-441B-9CAB-8B9D7D2D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4A4D-E588-4698-9617-557314B9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55765-506E-4107-B442-F35F4A71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A423D-1125-48A7-90E0-523840CC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CAB07-A0AF-4E00-9D8E-C9AA7A4D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C225E-8DC2-446F-A9B6-BC7905BF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5640A-C30C-46E2-843C-C2F3A8D1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FE9BE-0819-4FF6-855B-AEAA873B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1E57A-2A00-4089-97C2-CAB6D767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6D1D9-FE56-4B12-B054-61DD79AF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554DF-E1DF-4BED-AE49-9EE15D69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D57F4-90D2-45B7-8553-E8CC923C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2E2-43D0-4A8B-8D04-370C0057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6AE1C-DE24-4C23-901C-DEE2DC38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78226-4B0A-49CB-8C10-C9E01B21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DB503-0B1D-405D-8232-9FB96D77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01984-F31C-4B7C-BCAE-30BD93E5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DEB5B-1801-44A6-8DFD-05F23707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349F2-5D21-4F78-88F9-C8E8A795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1F86D-F017-4BA8-AAE6-11327C85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7C496-CAE1-47C4-B7CD-FFDF5788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05B03-FC1B-455D-9B9F-F1012E55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81214-2ED3-4601-A75B-D5AA0A03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115-6E7D-44BF-B8B3-1805C5A8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53238-8584-4A6B-A0CB-D17DE30C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3DC5D-12C4-4B88-AEC5-4D14C824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1FF47-C8ED-455C-968A-AE64C051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8D351-71DA-4B16-AD14-459E0C3F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1C72D-05B3-438D-966F-A74DFBFF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6C0B7-2C7A-4B32-87FE-E2C0D8C0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16022-DC17-4529-84AB-091F3D8B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CB170-C4E2-47DE-AB8C-1754635C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1D719-35BA-49D2-A632-A5544A08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FBAA9-26FA-496F-92CA-347E9726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9C57-C43D-4C4C-A67E-A56AF0F25F4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A578-B5D8-4B93-A9B9-BC6247BABCE7}" type="slidenum">
              <a:rPr b="0" lang="en-US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BF93-F815-42E9-9D97-9A70C36095A7}" type="slidenum">
              <a:rPr b="0" lang="en-US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2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D8FC-10A1-4775-ABD1-EDEABB9954A1}" type="slidenum">
              <a:rPr b="0" lang="en-US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6424-31C2-40EC-846B-E40C4BDE4A1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33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1451-FE46-419C-92C9-D0E7CF16CA77}" type="slidenum">
              <a:rPr b="0" lang="en-US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7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8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2901-694A-40E7-BDCE-DFBB3039D3E9}" type="slidenum">
              <a:rPr b="0" lang="en-US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227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1431-5AB1-4A73-A607-A395E7EA1E65}" type="slidenum">
              <a:rPr b="0" lang="en-US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7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D7BC-5934-4491-9958-A98BE539727A}" type="slidenum">
              <a:rPr b="0" lang="en-US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026C-255E-4265-ADFD-34C611347FD8}" type="slidenum">
              <a:rPr b="0" lang="en-US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56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B69C-8679-419F-8229-81C5110841E2}" type="slidenum">
              <a:rPr b="0" lang="en-US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jpeg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284360" y="5589720"/>
            <a:ext cx="4529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оц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. др Драган Васиље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228060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2268360" y="17733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ДУЛ 2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И СПОРТСКЕ ФАРМАЦИЈЕ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324000" y="2924280"/>
            <a:ext cx="8281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 наставна јединица (осма недеља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ДИЈЕТЕТСКИ СУПЛЕМЕНТИ 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СПОРТУ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крај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чео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манентног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ст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овањ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ег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д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ћењ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х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ат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ак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говин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им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м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гл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,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ијард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р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чк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,1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уск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х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ошил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,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ијард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р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вом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овањ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ошњ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гом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ел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агресивниј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н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пањ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ђач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х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д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апређењ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г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ављањ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ог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ициј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њ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х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м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им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им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м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т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чар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јазн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так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етих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м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ресу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у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е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ништва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бије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но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9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оград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ост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их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т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јенат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ом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рињавајућ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врђуј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тивних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ништво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биј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биј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ћ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о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но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о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х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ат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т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медикациј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отерапиј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им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х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ационалних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њ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г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 суплемент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 суплементи обухватају широк спектар произв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бзира на облик у коме се налазе, који може бити необичан за намирнице,они припадају категорији намирни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ју се у апотекама, продавницама здраве хране, али и путем Интернета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жиште дијететских суплемената је у великој експанзији!! (5,3 милијарде долара,1000 нових у току само једне године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ивно промовисани у медијима, веома често са звучним обећањима о ефикасности, и често без упозорења о евентуалној опас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СКА ИСХРАН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сти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чије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е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е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ујћим нутријентима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ремена спортска исхрана 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у основу у складу са принципима рационалне исхр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ње оптималне дијете није лак процес и мора 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атрати холистички, са физиолошког, културолошког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ог асп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е потребе се задовољавају када спортиста конзуми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у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ује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ан енергетски унос - одржавање енергетск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н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нс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ођен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им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ам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врсне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неопходне нутријен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ЕВИ СПОРТСКЕ ИСХРАН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довољавањ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их потреба неопходних у тренира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ивање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ног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ување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г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а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а</a:t>
            </a:r>
            <a:r>
              <a:rPr b="1" lang="nn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г</a:t>
            </a:r>
            <a:r>
              <a:rPr b="1" lang="nn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мањењ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а од болести и повреда током периода тешк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завање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е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вка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зање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ње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е</a:t>
            </a:r>
            <a:r>
              <a:rPr b="1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е</a:t>
            </a:r>
            <a:r>
              <a:rPr b="1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</a:t>
            </a:r>
            <a:r>
              <a:rPr b="1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мич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ивање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ивање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орочне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ница правилне ис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дро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атрање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ука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них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и примену дијететских суплемен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Diagram 3" descr=""/>
          <p:cNvPicPr/>
          <p:nvPr/>
        </p:nvPicPr>
        <p:blipFill>
          <a:blip r:embed="rId1"/>
          <a:stretch/>
        </p:blipFill>
        <p:spPr>
          <a:xfrm>
            <a:off x="-6480" y="907920"/>
            <a:ext cx="9156960" cy="596916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СКА ИСХРАНА </a:t>
            </a:r>
            <a:r>
              <a:rPr b="1" lang="en-US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2"/>
          <p:cNvSpPr/>
          <p:nvPr/>
        </p:nvSpPr>
        <p:spPr>
          <a:xfrm>
            <a:off x="1371600" y="2819520"/>
            <a:ext cx="655308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5294"/>
                </a:srgbClr>
              </a:gs>
              <a:gs pos="50000">
                <a:srgbClr val="ffffff"/>
              </a:gs>
              <a:gs pos="100000">
                <a:srgbClr val="4f81b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2133720" y="1066680"/>
            <a:ext cx="510516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omic Sans MS"/>
              </a:rPr>
              <a:t>ОПТИМАЛНА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omic Sans MS"/>
              </a:rPr>
              <a:t>ДИЈЕТА</a:t>
            </a:r>
            <a:r>
              <a:rPr b="1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1295280" y="2819520"/>
            <a:ext cx="6629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јена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дило правил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ис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4800600" y="243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AutoShape 9"/>
          <p:cNvSpPr/>
          <p:nvPr/>
        </p:nvSpPr>
        <p:spPr>
          <a:xfrm>
            <a:off x="4267080" y="228600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ffffff"/>
          </a:solidFill>
          <a:ln cap="sq"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AutoShape 11"/>
          <p:cNvSpPr/>
          <p:nvPr/>
        </p:nvSpPr>
        <p:spPr>
          <a:xfrm>
            <a:off x="1371600" y="4648320"/>
            <a:ext cx="65530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31372"/>
                </a:srgbClr>
              </a:gs>
              <a:gs pos="50000">
                <a:srgbClr val="ffffff"/>
              </a:gs>
              <a:gs pos="100000">
                <a:srgbClr val="4f81bd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ајнира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ланирано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AutoShape 9"/>
          <p:cNvSpPr/>
          <p:nvPr/>
        </p:nvSpPr>
        <p:spPr>
          <a:xfrm>
            <a:off x="4191120" y="403848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ff"/>
          </a:solidFill>
          <a:ln cap="sq"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СКА ИСХРАНА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AutoShape 3"/>
          <p:cNvSpPr/>
          <p:nvPr/>
        </p:nvSpPr>
        <p:spPr>
          <a:xfrm>
            <a:off x="1676520" y="2057400"/>
            <a:ext cx="58672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6078"/>
                </a:srgbClr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ЛОГ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ХРАН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РГАНИЗМУ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AutoShape 5"/>
          <p:cNvSpPr/>
          <p:nvPr/>
        </p:nvSpPr>
        <p:spPr>
          <a:xfrm>
            <a:off x="3200400" y="4648320"/>
            <a:ext cx="25909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42352"/>
                </a:srgbClr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ШТИТНА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AutoShape 6"/>
          <p:cNvSpPr/>
          <p:nvPr/>
        </p:nvSpPr>
        <p:spPr>
          <a:xfrm>
            <a:off x="6172200" y="4572000"/>
            <a:ext cx="25909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46274"/>
                </a:srgbClr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ЕНЕРГЕТС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48006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AutoShape 5"/>
          <p:cNvSpPr/>
          <p:nvPr/>
        </p:nvSpPr>
        <p:spPr>
          <a:xfrm>
            <a:off x="304920" y="4648320"/>
            <a:ext cx="259056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48235"/>
                </a:srgbClr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ГРАДИВНА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omic Sans MS"/>
              </a:rPr>
              <a:t>СПОРТСКА ИСХРАНА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AutoShape 14"/>
          <p:cNvSpPr/>
          <p:nvPr/>
        </p:nvSpPr>
        <p:spPr>
          <a:xfrm rot="3102600">
            <a:off x="6087600" y="375624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AutoShape 15"/>
          <p:cNvSpPr/>
          <p:nvPr/>
        </p:nvSpPr>
        <p:spPr>
          <a:xfrm rot="5400000">
            <a:off x="4038120" y="384804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AutoShape 16"/>
          <p:cNvSpPr/>
          <p:nvPr/>
        </p:nvSpPr>
        <p:spPr>
          <a:xfrm rot="7530000">
            <a:off x="1834560" y="378756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трошња</a:t>
            </a:r>
            <a:r>
              <a:rPr b="1" lang="sl-SI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енергије</a:t>
            </a:r>
            <a:r>
              <a:rPr b="1" lang="sl-SI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и</a:t>
            </a:r>
            <a:r>
              <a:rPr b="1" lang="sl-SI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азличитим</a:t>
            </a:r>
            <a:r>
              <a:rPr b="1" lang="sl-SI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ктивностима</a:t>
            </a:r>
            <a:r>
              <a:rPr b="1" lang="sl-SI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Comic Sans MS"/>
              </a:rPr>
              <a:t>kJ/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0" y="12189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павање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27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Одмарање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едећем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таву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41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Читање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тихо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439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Читање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гласно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49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Лагани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ход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83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Брзо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ходање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125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Вожња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бициклом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                           171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ливање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209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Трчање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238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ењање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460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трошак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енергиј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вис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тензитет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рајањ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рст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чк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ктивност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3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 одлике дијететских суплемената: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- Дефиниција и врсте.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тицај примене дијететских суплемената на организам.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 суплементи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, регулатива, стату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 суплемент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даци исхрани) су намирнице ко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њују нормалну исхрану и представљају концентроване извор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а, минерала или других супстанци са храњивим или физиолошким ефектом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о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и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у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ним облицима дизајниране да се узму у одмереним појединачни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ма (капсуле, таблете, кесице прашка, ампуле течности, бочиц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е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ма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е чињенице које карактеришу дијететске суплементе с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сани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ену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е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но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им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ма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у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а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уштена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ђачу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ашавање и рекламирање је дозвољено ка општој јавности 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аја је слободн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.... ...БРЖЕ..........ЈАЧЕ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Е......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УРНО....ЕФИКАСНО...ЛЕГАЛНО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К</a:t>
            </a:r>
            <a:r>
              <a:rPr b="1" lang="sr-Latn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о спортисти користе суплементе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зањ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авк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7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ољшање здравља – 5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ољшање перформанси – 4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 или терапија болести – 4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говарајућа дијета – 29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ом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А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ник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х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спортист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тр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предност може обезбеди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dietary supplements by athle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ughan, Depiesse, Geyer; 2007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00600" cy="15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уплементација у спорт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јпопуларнији суплемен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ко 70 % их кори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де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рема састав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рема намен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рема ефикас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7" descr="supplements1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одела дијететских суплемена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6" name="Diagram 6"/>
          <p:cNvGrpSpPr/>
          <p:nvPr/>
        </p:nvGrpSpPr>
        <p:grpSpPr>
          <a:xfrm>
            <a:off x="666360" y="988560"/>
            <a:ext cx="7810200" cy="5716440"/>
            <a:chOff x="666360" y="988560"/>
            <a:chExt cx="7810200" cy="5716440"/>
          </a:xfrm>
        </p:grpSpPr>
        <p:sp>
          <p:nvSpPr>
            <p:cNvPr id="547" name="_s1028"/>
            <p:cNvSpPr/>
            <p:nvPr/>
          </p:nvSpPr>
          <p:spPr>
            <a:xfrm flipH="1" flipV="1">
              <a:off x="2691360" y="3130560"/>
              <a:ext cx="939960" cy="35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_s1029"/>
            <p:cNvSpPr/>
            <p:nvPr/>
          </p:nvSpPr>
          <p:spPr>
            <a:xfrm>
              <a:off x="666360" y="2058480"/>
              <a:ext cx="2171160" cy="142992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BILJNI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SUPLEMENTI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_s1030"/>
            <p:cNvSpPr/>
            <p:nvPr/>
          </p:nvSpPr>
          <p:spPr>
            <a:xfrm flipH="1">
              <a:off x="2691360" y="4203360"/>
              <a:ext cx="939960" cy="3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_s1031"/>
            <p:cNvSpPr/>
            <p:nvPr/>
          </p:nvSpPr>
          <p:spPr>
            <a:xfrm>
              <a:off x="666360" y="4203360"/>
              <a:ext cx="2171160" cy="142956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METABOLITI/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KOSTITUENSI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1" name="_s1032"/>
            <p:cNvSpPr/>
            <p:nvPr/>
          </p:nvSpPr>
          <p:spPr>
            <a:xfrm>
              <a:off x="4571640" y="4560840"/>
              <a:ext cx="0" cy="71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2" name="_s1033"/>
            <p:cNvSpPr/>
            <p:nvPr/>
          </p:nvSpPr>
          <p:spPr>
            <a:xfrm>
              <a:off x="3485880" y="5275440"/>
              <a:ext cx="2171160" cy="1429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KOMBINOVANI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3" name="_s1034"/>
            <p:cNvSpPr/>
            <p:nvPr/>
          </p:nvSpPr>
          <p:spPr>
            <a:xfrm>
              <a:off x="5511240" y="4203360"/>
              <a:ext cx="939960" cy="3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4" name="_s1035"/>
            <p:cNvSpPr/>
            <p:nvPr/>
          </p:nvSpPr>
          <p:spPr>
            <a:xfrm>
              <a:off x="6305400" y="4203360"/>
              <a:ext cx="2171160" cy="14295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AMINOKISELIN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5" name="_s1036"/>
            <p:cNvSpPr/>
            <p:nvPr/>
          </p:nvSpPr>
          <p:spPr>
            <a:xfrm flipV="1">
              <a:off x="5511240" y="3133080"/>
              <a:ext cx="939960" cy="3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_s1037"/>
            <p:cNvSpPr/>
            <p:nvPr/>
          </p:nvSpPr>
          <p:spPr>
            <a:xfrm>
              <a:off x="6305400" y="2061000"/>
              <a:ext cx="2171160" cy="14295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MINERALI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_s1038"/>
            <p:cNvSpPr/>
            <p:nvPr/>
          </p:nvSpPr>
          <p:spPr>
            <a:xfrm flipV="1">
              <a:off x="4571640" y="2417760"/>
              <a:ext cx="0" cy="71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_s1039"/>
            <p:cNvSpPr/>
            <p:nvPr/>
          </p:nvSpPr>
          <p:spPr>
            <a:xfrm>
              <a:off x="3485880" y="988560"/>
              <a:ext cx="2171160" cy="14295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VITAMINI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_s1040"/>
            <p:cNvSpPr/>
            <p:nvPr/>
          </p:nvSpPr>
          <p:spPr>
            <a:xfrm>
              <a:off x="3485880" y="3133080"/>
              <a:ext cx="2171160" cy="14295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Comic Sans MS"/>
                </a:rPr>
                <a:t>DIJETETSKI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Comic Sans MS"/>
                </a:rPr>
                <a:t>SUPLEMENTI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0" name="Rectangle 4"/>
          <p:cNvSpPr/>
          <p:nvPr/>
        </p:nvSpPr>
        <p:spPr>
          <a:xfrm>
            <a:off x="3951360" y="1523880"/>
            <a:ext cx="132228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итами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838080" y="2438280"/>
            <a:ext cx="1676520" cy="642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иљни суплемен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6629400" y="2590920"/>
            <a:ext cx="167652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инера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733920" y="3581280"/>
            <a:ext cx="1676160" cy="642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ијететски суплемен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914400" y="4572000"/>
            <a:ext cx="167652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етаболити/конституенс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Rectangle 9"/>
          <p:cNvSpPr/>
          <p:nvPr/>
        </p:nvSpPr>
        <p:spPr>
          <a:xfrm>
            <a:off x="3657600" y="5791320"/>
            <a:ext cx="18288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омбинова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6400800" y="4724280"/>
            <a:ext cx="1981080" cy="642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минокиселин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Коришћење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суплемената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врхунских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спорти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962160" y="1412640"/>
            <a:ext cx="51814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устралијски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ливачи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(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=7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207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азличитих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оизво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(Baylis, 200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85840" y="3644640"/>
            <a:ext cx="525780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анадски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портисти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И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иднеју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тланти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(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25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(Huang, 200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4648320" y="1905120"/>
            <a:ext cx="3886200" cy="825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% </a:t>
            </a:r>
            <a:r>
              <a:rPr b="0" lang="sr-RS" sz="2400" spc="-1" strike="noStrike">
                <a:solidFill>
                  <a:srgbClr val="000000"/>
                </a:solidFill>
                <a:latin typeface="Garamond"/>
              </a:rPr>
              <a:t>користило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Garamond"/>
              </a:rPr>
              <a:t>суплемен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1" name="Picture 6" descr="SS07015"/>
          <p:cNvPicPr/>
          <p:nvPr/>
        </p:nvPicPr>
        <p:blipFill>
          <a:blip r:embed="rId1"/>
          <a:stretch/>
        </p:blipFill>
        <p:spPr>
          <a:xfrm>
            <a:off x="0" y="1447920"/>
            <a:ext cx="3925800" cy="541008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13"/>
          <p:cNvSpPr/>
          <p:nvPr/>
        </p:nvSpPr>
        <p:spPr>
          <a:xfrm>
            <a:off x="4800600" y="4876920"/>
            <a:ext cx="3600360" cy="1557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69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% </a:t>
            </a:r>
            <a:r>
              <a:rPr b="0" lang="sr-RS" sz="2400" spc="-1" strike="noStrike">
                <a:solidFill>
                  <a:srgbClr val="000000"/>
                </a:solidFill>
                <a:latin typeface="Garamond"/>
              </a:rPr>
              <a:t>спортиста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sr-RS" sz="2400" spc="-1" strike="noStrike">
                <a:solidFill>
                  <a:srgbClr val="000000"/>
                </a:solidFill>
                <a:latin typeface="Garamond"/>
              </a:rPr>
              <a:t>Атла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74% </a:t>
            </a:r>
            <a:r>
              <a:rPr b="0" lang="sr-RS" sz="2400" spc="-1" strike="noStrike">
                <a:solidFill>
                  <a:srgbClr val="000000"/>
                </a:solidFill>
                <a:latin typeface="Garamond"/>
              </a:rPr>
              <a:t>спортиста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sr-RS" sz="2400" spc="-1" strike="noStrike">
                <a:solidFill>
                  <a:srgbClr val="000000"/>
                </a:solidFill>
                <a:latin typeface="Garamond"/>
              </a:rPr>
              <a:t>Сидне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435276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mic Sans MS"/>
                <a:ea typeface="Tunga"/>
              </a:rPr>
              <a:t>Коришћење</a:t>
            </a:r>
            <a:r>
              <a:rPr b="0" lang="sr-Latn-CS" sz="3200" spc="-1" strike="noStrike">
                <a:solidFill>
                  <a:srgbClr val="002060"/>
                </a:solidFill>
                <a:latin typeface="Comic Sans MS"/>
                <a:ea typeface="Tung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omic Sans MS"/>
                <a:ea typeface="Tunga"/>
              </a:rPr>
              <a:t>дијететских</a:t>
            </a:r>
            <a:r>
              <a:rPr b="0" lang="sr-Latn-CS" sz="3200" spc="-1" strike="noStrike">
                <a:solidFill>
                  <a:srgbClr val="002060"/>
                </a:solidFill>
                <a:latin typeface="Comic Sans MS"/>
                <a:ea typeface="Tung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omic Sans MS"/>
                <a:ea typeface="Tunga"/>
              </a:rPr>
              <a:t>суплемена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Object 2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3857400" cy="1876320"/>
          </a:xfrm>
          <a:prstGeom prst="rect">
            <a:avLst/>
          </a:prstGeom>
          <a:ln w="0">
            <a:noFill/>
          </a:ln>
        </p:spPr>
      </p:pic>
      <p:pic>
        <p:nvPicPr>
          <p:cNvPr id="575" name="Object 4" descr=""/>
          <p:cNvPicPr/>
          <p:nvPr/>
        </p:nvPicPr>
        <p:blipFill>
          <a:blip r:embed="rId2"/>
          <a:stretch/>
        </p:blipFill>
        <p:spPr>
          <a:xfrm>
            <a:off x="635040" y="3378240"/>
            <a:ext cx="7950240" cy="3530520"/>
          </a:xfrm>
          <a:prstGeom prst="rect">
            <a:avLst/>
          </a:prstGeom>
          <a:ln w="0">
            <a:noFill/>
          </a:ln>
        </p:spPr>
      </p:pic>
      <p:pic>
        <p:nvPicPr>
          <p:cNvPr id="576" name="Object 5" descr=""/>
          <p:cNvPicPr/>
          <p:nvPr/>
        </p:nvPicPr>
        <p:blipFill>
          <a:blip r:embed="rId3"/>
          <a:stretch/>
        </p:blipFill>
        <p:spPr>
          <a:xfrm>
            <a:off x="4808520" y="1106640"/>
            <a:ext cx="3646440" cy="1998360"/>
          </a:xfrm>
          <a:prstGeom prst="rect">
            <a:avLst/>
          </a:prstGeom>
          <a:ln w="0">
            <a:noFill/>
          </a:ln>
        </p:spPr>
      </p:pic>
      <p:sp>
        <p:nvSpPr>
          <p:cNvPr id="577" name="TextBox 6"/>
          <p:cNvSpPr/>
          <p:nvPr/>
        </p:nvSpPr>
        <p:spPr>
          <a:xfrm>
            <a:off x="1605240" y="642960"/>
            <a:ext cx="772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ра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TextBox 7"/>
          <p:cNvSpPr/>
          <p:nvPr/>
        </p:nvSpPr>
        <p:spPr>
          <a:xfrm>
            <a:off x="6034320" y="642960"/>
            <a:ext cx="7722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ра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mic Sans MS"/>
                <a:ea typeface="Tunga"/>
              </a:rPr>
              <a:t>Употреба</a:t>
            </a:r>
            <a:r>
              <a:rPr b="1" lang="sr-Latn-CS" sz="2800" spc="-1" strike="noStrike">
                <a:solidFill>
                  <a:srgbClr val="002060"/>
                </a:solidFill>
                <a:latin typeface="Comic Sans MS"/>
                <a:ea typeface="Tung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omic Sans MS"/>
                <a:ea typeface="Tunga"/>
              </a:rPr>
              <a:t>дијететских</a:t>
            </a:r>
            <a:r>
              <a:rPr b="1" lang="sr-Latn-CS" sz="2800" spc="-1" strike="noStrike">
                <a:solidFill>
                  <a:srgbClr val="002060"/>
                </a:solidFill>
                <a:latin typeface="Comic Sans MS"/>
                <a:ea typeface="Tung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omic Sans MS"/>
                <a:ea typeface="Tunga"/>
              </a:rPr>
              <a:t>суплемената</a:t>
            </a:r>
            <a:r>
              <a:rPr b="1" lang="sr-Latn-CS" sz="2800" spc="-1" strike="noStrike">
                <a:solidFill>
                  <a:srgbClr val="002060"/>
                </a:solidFill>
                <a:latin typeface="Comic Sans MS"/>
                <a:ea typeface="Tung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omic Sans MS"/>
                <a:ea typeface="Tunga"/>
              </a:rPr>
              <a:t>по</a:t>
            </a:r>
            <a:r>
              <a:rPr b="1" lang="sr-Latn-CS" sz="2800" spc="-1" strike="noStrike">
                <a:solidFill>
                  <a:srgbClr val="002060"/>
                </a:solidFill>
                <a:latin typeface="Comic Sans MS"/>
                <a:ea typeface="Tung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omic Sans MS"/>
                <a:ea typeface="Tunga"/>
              </a:rPr>
              <a:t>врстама</a:t>
            </a:r>
            <a:r>
              <a:rPr b="1" lang="en-US" sz="2000" spc="-1" strike="noStrike">
                <a:solidFill>
                  <a:srgbClr val="002060"/>
                </a:solidFill>
                <a:latin typeface="Comic Sans MS"/>
                <a:ea typeface="Tung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Chart 3" descr=""/>
          <p:cNvPicPr/>
          <p:nvPr/>
        </p:nvPicPr>
        <p:blipFill>
          <a:blip r:embed="rId1"/>
          <a:stretch/>
        </p:blipFill>
        <p:spPr>
          <a:xfrm>
            <a:off x="-6480" y="603360"/>
            <a:ext cx="9156960" cy="626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и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ата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зи за примен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 у испуњавању нутриционих захт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ољшање перформан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бо ефек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зи против примен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и ефек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мерни допин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итак примарног циља- добар тренин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с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уј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бичајено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тивн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н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љај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ц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њуј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ј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јената (витами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љив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ом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н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м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ајнира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ај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ен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м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сиц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пул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чиц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м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;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онална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њуј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о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ник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х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ата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ају: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им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тивним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ама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им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ом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их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ака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х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и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ћи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о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ј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ништва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а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иц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сти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 питања која морамо поставити за сваки суплеме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ал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суплемената према врсти и састав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0" y="685800"/>
          <a:ext cx="9144000" cy="6786720"/>
        </p:xfrm>
        <a:graphic>
          <a:graphicData uri="http://schemas.openxmlformats.org/drawingml/2006/table">
            <a:tbl>
              <a:tblPr/>
              <a:tblGrid>
                <a:gridCol w="3581280"/>
                <a:gridCol w="556272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тами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тамин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, E,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тамин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ералне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р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меници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ектролита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Na, K, 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, Fe, C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карбонат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тр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88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боли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ат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HMB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руват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L-karnit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дростендио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хормо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љни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плементи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тохемикал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Rhodiola ros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ерцет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88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ституенс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ицеро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боз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ензи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Q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минокиселине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теи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теин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ру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β-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ан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утам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ле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минокисели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з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иотиц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укоза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рема нивоу доказ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ја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стралијског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итута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за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ован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и и безбед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Група А - одобрени суплем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рупа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-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плементи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ји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матрањ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рупа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-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плементи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је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тоји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јас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каз о корисном дејст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па Д - забрањени суплем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суплемената према ефекасности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езбед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0" y="1143000"/>
          <a:ext cx="9144000" cy="5875200"/>
        </p:xfrm>
        <a:graphic>
          <a:graphicData uri="http://schemas.openxmlformats.org/drawingml/2006/table">
            <a:tbl>
              <a:tblPr/>
              <a:tblGrid>
                <a:gridCol w="4724280"/>
                <a:gridCol w="4419720"/>
              </a:tblGrid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1" lang="sr-Latn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фе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ат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карбонат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р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, C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ини суру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иотиц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ска пић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ск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лов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1" lang="sr-Latn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B</a:t>
                      </a: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-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н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-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нит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ерцет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л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фенол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сиданс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85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1" lang="sr-Latn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C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оз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нзи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Q10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же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козам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уват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з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ол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л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племен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1" lang="sr-Latn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др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ихн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бутра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ростендио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рмо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цер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Витамински</a:t>
            </a:r>
            <a:r>
              <a:rPr b="1" lang="sr-Latn-C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суплемен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11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3962520" cy="32004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3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575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Витамини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регулатори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метаболизма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утичу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многобројне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физиолошке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процесе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битне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физичку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активност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75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комплекс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→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метаболизам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УХ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и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масти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формирање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хемоглобина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75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Вит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Ц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и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Е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→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антиоксиданси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75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Дефицит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витамина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смањује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ефикасност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вежбања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75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Најпопуларнији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дијететски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суплементи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!!!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Да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ли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утичу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на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побољшање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ефикасности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                      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тренинга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и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спортских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резултата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је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предмет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многобројних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студија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?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ск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0" y="762120"/>
          <a:ext cx="9144000" cy="63640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3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уп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имена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ј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ежељ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фек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иво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ока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ат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3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лтивитамин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енциј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иц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3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боличк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ен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еомалац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штит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шић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шт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љ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ч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раћањ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ип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тећењ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бре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Минералне матер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иј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гадоз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поручу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нутријенти који се најчешће конзумирају у недовољн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цију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осеб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лцију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та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сфор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вожђ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нган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S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е - статус 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-360" y="533520"/>
            <a:ext cx="6553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и дефици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аленц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је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иво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емоглобина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рмал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 ниво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ритина у серуму испод 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-3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g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l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е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зано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им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ом на тренин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 же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ча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ит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а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емоглобина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ан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</a:t>
            </a: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ранспорт</a:t>
            </a: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исеоника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глобина, који предствља складиште кисеоника у мишић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A је 15 m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ли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фицит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вожђ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о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ти на спортске перформан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6" descr="lowblood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6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татус калцију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0" y="838080"/>
            <a:ext cx="5562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мањење коштане ма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алцијум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еопходан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ормирањ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државањ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ост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ако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мерен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чк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ктивност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неопходн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ормирањ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остију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тензивн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ренинз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огу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реметит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енструалн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циклус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овест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ормонског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исбаланс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што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тич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дрављ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ост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рло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ажно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схран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портист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рочито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жен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адрж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овољн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оличин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алциј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Picture 6" descr="iStock_000005066220XSmall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с калцију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цијум је неопходан за формирање и одржавање кост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ако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а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а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ње костију, интензивни тренинзи могу пореметити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струални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ус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сти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хормонског дисбаланса, што утиче на здравље кост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а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ста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чито жена, садржи довољне количине калцију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 суплементи су намирнице ко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њују нормалну исхрану и представља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е изворе нутријената (витам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а и других супстанци са хранљивим 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м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ом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ним фармацеутским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ма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ајниране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ај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еним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им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ма (капсуле, таблете, капи и с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онална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да замењују појединачне оброке и но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у «дијететски суплемент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Comic Sans MS"/>
              </a:rPr>
              <a:t>Атлетичарск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Comic Sans MS"/>
              </a:rPr>
              <a:t>тријад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15" descr="2009_World_Championships_in_Athletics,_women_marathon"/>
          <p:cNvPicPr/>
          <p:nvPr/>
        </p:nvPicPr>
        <p:blipFill>
          <a:blip r:embed="rId1"/>
          <a:stretch/>
        </p:blipFill>
        <p:spPr>
          <a:xfrm>
            <a:off x="5996160" y="0"/>
            <a:ext cx="3147840" cy="6858000"/>
          </a:xfrm>
          <a:prstGeom prst="rect">
            <a:avLst/>
          </a:prstGeom>
          <a:ln w="0">
            <a:noFill/>
          </a:ln>
        </p:spPr>
      </p:pic>
      <p:pic>
        <p:nvPicPr>
          <p:cNvPr id="608" name="Diagram 4" descr=""/>
          <p:cNvPicPr/>
          <p:nvPr/>
        </p:nvPicPr>
        <p:blipFill>
          <a:blip r:embed="rId2"/>
          <a:stretch/>
        </p:blipFill>
        <p:spPr>
          <a:xfrm>
            <a:off x="-6480" y="907920"/>
            <a:ext cx="58770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ни суплементи-оста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0" y="685800"/>
          <a:ext cx="9144000" cy="6172200"/>
        </p:xfrm>
        <a:graphic>
          <a:graphicData uri="http://schemas.openxmlformats.org/drawingml/2006/table">
            <a:tbl>
              <a:tblPr/>
              <a:tblGrid>
                <a:gridCol w="2286000"/>
                <a:gridCol w="2362320"/>
                <a:gridCol w="2438280"/>
                <a:gridCol w="20574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плем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на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ј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жеље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фек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во</a:t>
                      </a:r>
                      <a:r>
                        <a:rPr b="1" lang="sr-Latn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каза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т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ни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л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иј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хидратаци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енциј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понатријеми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окнад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л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</a:t>
                      </a: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колин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в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етљивост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улинск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цеп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болич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бедан</a:t>
                      </a: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</a:t>
                      </a: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истити</a:t>
                      </a: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</a:t>
                      </a: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з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КОРИС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 Америчке дијететске асоцијације је да суплемен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им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им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ије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опходна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ст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љне количине витамина и минерала путем разноврсне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но избалансиране исхра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ак, употеба поједних витамина и минерала, као и мултивитаминских и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тиминералних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равдан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чајевима посебних режима исхране као што је вегетаријан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и енергетски унос у циљу смањења телесне мас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ста је немоћан или невољан да прошири разноврсност у исхра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дужих путовање или на други начин лимитираним изворима хра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Оксидативни</a:t>
            </a:r>
            <a:r>
              <a:rPr b="0" lang="sr-Latn-C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стрес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Picture 6" descr="radlogo"/>
          <p:cNvPicPr/>
          <p:nvPr/>
        </p:nvPicPr>
        <p:blipFill>
          <a:blip r:embed="rId1"/>
          <a:stretch/>
        </p:blipFill>
        <p:spPr>
          <a:xfrm>
            <a:off x="3619440" y="31240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3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Оксидативни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стрес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 стање у коме је деликатна равотежа између продукције про-оксиданаса-слободних радикала и њиховог уклањања путем антиоксидативних заштитиних механизама померена у смеру стварања слободних радикал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Слободни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радикал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том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томск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руп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лекул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мај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дан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иш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спарених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лектрона → нестабилн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активн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ОКСИДАТИВНИ</a:t>
            </a:r>
            <a:r>
              <a:rPr b="1" lang="sr-Latn-C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СТРЕС</a:t>
            </a:r>
            <a:r>
              <a:rPr b="1" lang="sr-Latn-C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sr-Latn-C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СПОР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AutoShape 3"/>
          <p:cNvSpPr/>
          <p:nvPr/>
        </p:nvSpPr>
        <p:spPr>
          <a:xfrm>
            <a:off x="1386000" y="1782720"/>
            <a:ext cx="1600200" cy="781200"/>
          </a:xfrm>
          <a:custGeom>
            <a:avLst/>
            <a:gdLst>
              <a:gd name="textAreaLeft" fmla="*/ 234360 w 1600200"/>
              <a:gd name="textAreaRight" fmla="*/ 1365840 w 1600200"/>
              <a:gd name="textAreaTop" fmla="*/ 114120 h 781200"/>
              <a:gd name="textAreaBottom" fmla="*/ 667080 h 781200"/>
            </a:gdLst>
            <a:ahLst/>
            <a:rect l="textAreaLeft" t="textAreaTop" r="textAreaRight" b="textAreaBottom"/>
            <a:pathLst>
              <a:path w="21600" h="21600">
                <a:moveTo>
                  <a:pt x="16860" y="4812"/>
                </a:moveTo>
                <a:cubicBezTo>
                  <a:pt x="15260" y="3191"/>
                  <a:pt x="13077" y="2280"/>
                  <a:pt x="10800" y="2280"/>
                </a:cubicBezTo>
                <a:cubicBezTo>
                  <a:pt x="7028" y="2279"/>
                  <a:pt x="3705" y="4759"/>
                  <a:pt x="2632" y="8375"/>
                </a:cubicBezTo>
                <a:lnTo>
                  <a:pt x="446" y="7727"/>
                </a:lnTo>
                <a:cubicBezTo>
                  <a:pt x="1806" y="3143"/>
                  <a:pt x="6018" y="-1"/>
                  <a:pt x="10800" y="0"/>
                </a:cubicBezTo>
                <a:cubicBezTo>
                  <a:pt x="13687" y="0"/>
                  <a:pt x="16453" y="1155"/>
                  <a:pt x="18482" y="3209"/>
                </a:cubicBezTo>
                <a:lnTo>
                  <a:pt x="20403" y="1312"/>
                </a:lnTo>
                <a:lnTo>
                  <a:pt x="20370" y="6741"/>
                </a:lnTo>
                <a:lnTo>
                  <a:pt x="14940" y="6709"/>
                </a:lnTo>
                <a:lnTo>
                  <a:pt x="16860" y="481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Text Box 4"/>
          <p:cNvSpPr/>
          <p:nvPr/>
        </p:nvSpPr>
        <p:spPr>
          <a:xfrm flipV="1" rot="10800000">
            <a:off x="1066320" y="2361240"/>
            <a:ext cx="1521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физички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напо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2916360" y="1773360"/>
            <a:ext cx="2950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овећана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отрошња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кисеони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6443640" y="306864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5486400" y="3336840"/>
            <a:ext cx="3352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овећана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количина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слободних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радикал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4191120" y="5238720"/>
            <a:ext cx="216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оштећење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ћелиј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828720" y="443700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228600" y="544500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мор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шић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utoShape 11"/>
          <p:cNvSpPr/>
          <p:nvPr/>
        </p:nvSpPr>
        <p:spPr>
          <a:xfrm>
            <a:off x="2895480" y="5661000"/>
            <a:ext cx="1368720" cy="216000"/>
          </a:xfrm>
          <a:prstGeom prst="leftArrow">
            <a:avLst>
              <a:gd name="adj1" fmla="val 50000"/>
              <a:gd name="adj2" fmla="val 15841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6" name="Picture 12" descr="images11"/>
          <p:cNvPicPr/>
          <p:nvPr/>
        </p:nvPicPr>
        <p:blipFill>
          <a:blip r:embed="rId1"/>
          <a:stretch/>
        </p:blipFill>
        <p:spPr>
          <a:xfrm>
            <a:off x="6858000" y="1436760"/>
            <a:ext cx="1805040" cy="1915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3" descr="overtrainning"/>
          <p:cNvPicPr/>
          <p:nvPr/>
        </p:nvPicPr>
        <p:blipFill>
          <a:blip r:embed="rId2"/>
          <a:stretch/>
        </p:blipFill>
        <p:spPr>
          <a:xfrm>
            <a:off x="1276200" y="3284640"/>
            <a:ext cx="1695600" cy="20890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4" descr="2006_05_20_overtraining_3"/>
          <p:cNvPicPr/>
          <p:nvPr/>
        </p:nvPicPr>
        <p:blipFill>
          <a:blip r:embed="rId3"/>
          <a:stretch/>
        </p:blipFill>
        <p:spPr>
          <a:xfrm>
            <a:off x="7286760" y="4624560"/>
            <a:ext cx="1857240" cy="2233440"/>
          </a:xfrm>
          <a:prstGeom prst="rect">
            <a:avLst/>
          </a:prstGeom>
          <a:ln w="0">
            <a:noFill/>
          </a:ln>
        </p:spPr>
      </p:pic>
      <p:sp>
        <p:nvSpPr>
          <p:cNvPr id="629" name="AutoShape 15"/>
          <p:cNvSpPr/>
          <p:nvPr/>
        </p:nvSpPr>
        <p:spPr>
          <a:xfrm rot="7836600">
            <a:off x="5937840" y="4275720"/>
            <a:ext cx="1368360" cy="1052640"/>
          </a:xfrm>
          <a:custGeom>
            <a:avLst/>
            <a:gdLst>
              <a:gd name="textAreaLeft" fmla="*/ 200160 w 1368360"/>
              <a:gd name="textAreaRight" fmla="*/ 1168200 w 1368360"/>
              <a:gd name="textAreaTop" fmla="*/ 154080 h 1052640"/>
              <a:gd name="textAreaBottom" fmla="*/ 898560 h 1052640"/>
            </a:gdLst>
            <a:ahLst/>
            <a:rect l="textAreaLeft" t="textAreaTop" r="textAreaRight" b="textAreaBottom"/>
            <a:pathLst>
              <a:path w="21600" h="21600">
                <a:moveTo>
                  <a:pt x="16860" y="4812"/>
                </a:moveTo>
                <a:cubicBezTo>
                  <a:pt x="15260" y="3191"/>
                  <a:pt x="13077" y="2280"/>
                  <a:pt x="10800" y="2280"/>
                </a:cubicBezTo>
                <a:cubicBezTo>
                  <a:pt x="7028" y="2279"/>
                  <a:pt x="3705" y="4759"/>
                  <a:pt x="2632" y="8375"/>
                </a:cubicBezTo>
                <a:lnTo>
                  <a:pt x="446" y="7727"/>
                </a:lnTo>
                <a:cubicBezTo>
                  <a:pt x="1806" y="3143"/>
                  <a:pt x="6018" y="-1"/>
                  <a:pt x="10800" y="0"/>
                </a:cubicBezTo>
                <a:cubicBezTo>
                  <a:pt x="13687" y="0"/>
                  <a:pt x="16453" y="1155"/>
                  <a:pt x="18482" y="3209"/>
                </a:cubicBezTo>
                <a:lnTo>
                  <a:pt x="20403" y="1312"/>
                </a:lnTo>
                <a:lnTo>
                  <a:pt x="20370" y="6741"/>
                </a:lnTo>
                <a:lnTo>
                  <a:pt x="14940" y="6709"/>
                </a:lnTo>
                <a:lnTo>
                  <a:pt x="16860" y="481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AutoShape 16"/>
          <p:cNvSpPr/>
          <p:nvPr/>
        </p:nvSpPr>
        <p:spPr>
          <a:xfrm rot="2281800">
            <a:off x="5333760" y="2058480"/>
            <a:ext cx="1717560" cy="986040"/>
          </a:xfrm>
          <a:custGeom>
            <a:avLst/>
            <a:gdLst>
              <a:gd name="textAreaLeft" fmla="*/ 251280 w 1717560"/>
              <a:gd name="textAreaRight" fmla="*/ 1466280 w 1717560"/>
              <a:gd name="textAreaTop" fmla="*/ 144360 h 986040"/>
              <a:gd name="textAreaBottom" fmla="*/ 841680 h 986040"/>
            </a:gdLst>
            <a:ahLst/>
            <a:rect l="textAreaLeft" t="textAreaTop" r="textAreaRight" b="textAreaBottom"/>
            <a:pathLst>
              <a:path w="21600" h="21600">
                <a:moveTo>
                  <a:pt x="16860" y="4812"/>
                </a:moveTo>
                <a:cubicBezTo>
                  <a:pt x="15260" y="3191"/>
                  <a:pt x="13077" y="2280"/>
                  <a:pt x="10800" y="2280"/>
                </a:cubicBezTo>
                <a:cubicBezTo>
                  <a:pt x="7028" y="2279"/>
                  <a:pt x="3705" y="4759"/>
                  <a:pt x="2632" y="8375"/>
                </a:cubicBezTo>
                <a:lnTo>
                  <a:pt x="446" y="7727"/>
                </a:lnTo>
                <a:cubicBezTo>
                  <a:pt x="1806" y="3143"/>
                  <a:pt x="6018" y="-1"/>
                  <a:pt x="10800" y="0"/>
                </a:cubicBezTo>
                <a:cubicBezTo>
                  <a:pt x="13687" y="0"/>
                  <a:pt x="16453" y="1155"/>
                  <a:pt x="18482" y="3209"/>
                </a:cubicBezTo>
                <a:lnTo>
                  <a:pt x="20403" y="1312"/>
                </a:lnTo>
                <a:lnTo>
                  <a:pt x="20370" y="6741"/>
                </a:lnTo>
                <a:lnTo>
                  <a:pt x="14940" y="6709"/>
                </a:lnTo>
                <a:lnTo>
                  <a:pt x="16860" y="481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ободни радика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Најважнији</a:t>
            </a:r>
            <a:r>
              <a:rPr b="1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дијетарни</a:t>
            </a:r>
            <a:r>
              <a:rPr b="1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анитоксиданс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114800" y="11426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отенои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ипонска кисел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воноиди, лигнани, фено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фено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енз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г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3962520" y="586728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114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ssio H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dfarb A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o 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S Department, Miami University, Oxford, OH 45056, US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C (ascorbic acid) was supplemented (1 g/day) for 1 day and 2 weeks in the same subjects. Plasma thiobarbituric acid reacting substances (TBARS) and oxygen radical absorbance capacity (ORAC) before and after 30 min submaximal exercise were measured. Different vitamin C supplementations did not affect resting TBARS or ORAC. Following 30 min exercise, values for TBARS were 12.6 and 33% above rest with 1 day and 2 weeks of vitamin C supplementation, respectively, compared to 46% higher with placebo.                ORAC did not significantly change (11%) after exercise with a placebo, nor when subjects were given vitamin C supplements for 1 day or 2 days (4.9% and 5.73%, respectively). TBARS:ORAC, a ratio representing oxidative stress, increased 32% (p &lt; .05) with placebo compared to 5.8 and 25.8% with vitamin C supplements for 1 day and 2 weeks, respectivel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 was concluded that exercise-induced oxidative stress was highest when subjects did not supplement with vitamin C compared to either 1 day or 2 weeks of vitamin C supplement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0" y="57150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J Sport Nutr. 1997 Mar;7(1):1-9. Link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-induced oxidative stress before and after                                           vitamin C supplemen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корист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љан ефек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он краткорочне примене код спортиста код којих је присутно изненадно повећање стреса при тренира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д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ск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сниј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ењ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спољашње температуре или тренирање на већим надморским висин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Биљни дијететски суплемен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7 % женских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атлетичара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их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ори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Употреба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онтроверзна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себан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опрез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авет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тручног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ористе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већање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издржљивости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мањење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телесне масе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већање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телесне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масе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једињене</a:t>
            </a:r>
            <a:r>
              <a:rPr b="1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жав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н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ив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гл</a:t>
            </a:r>
            <a:r>
              <a:rPr b="0" lang="hr-B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tar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ement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4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чк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целариј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ш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ван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њен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рањ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б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ећих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ат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к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алн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љн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ч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т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т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ент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кт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х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ска</a:t>
            </a:r>
            <a:r>
              <a:rPr b="1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ив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ск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ј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2/46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2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ј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н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н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исан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љивих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их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м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м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алн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жишт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ај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ил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ул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сиц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пул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ајниран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ират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ен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м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м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Жен</a:t>
            </a: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ш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даптоген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пуларан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пулациј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порт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Хиљад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одишњ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мен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ш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аријет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ољ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ан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мориј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мањен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мор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блажавањ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ол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рц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лавовбољ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узеј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ритерпенск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ликозид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апонин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ежељена дејства- несаница и узнемире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рупа Ц дијететских суплемена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и дијететски суплемен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0" y="963720"/>
          <a:ext cx="9144000" cy="51354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п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н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ј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жељени ефек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во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ка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т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odio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љн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ог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ан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емирен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ерцет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ње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форманс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КОРИСТ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верзна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ан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з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чног л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Хумане студије-инконзистентни резулта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врда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гогена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облем стандардизац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лучај ефед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уплементи са протеинима или аминокиселина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Веома популарни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портској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опулацији, сматра се да повећавају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ретенцију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зот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овећавају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мишићну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мас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Њихов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употреб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оправдав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овећаним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отребам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ротеиним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портист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1,7 g/kg/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дан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лободне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К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матр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мају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ергогени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ефекат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Д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Comic Sans MS"/>
              </a:rPr>
              <a:t>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ли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су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з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ист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Comic Sans MS"/>
              </a:rPr>
              <a:t>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потр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Comic Sans MS"/>
              </a:rPr>
              <a:t>e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бни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Picture 4" descr=""/>
          <p:cNvPicPr/>
          <p:nvPr/>
        </p:nvPicPr>
        <p:blipFill>
          <a:blip r:embed="rId1"/>
          <a:stretch/>
        </p:blipFill>
        <p:spPr>
          <a:xfrm>
            <a:off x="6324480" y="3809880"/>
            <a:ext cx="2819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е протеина у организ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зим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ло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трансмитер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т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е потребе за протеиним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а одрасла особа               0,8 g/kg т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риоду адолесценције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 g/kg т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ови</a:t>
            </a:r>
            <a:r>
              <a:rPr b="0" lang="it-IT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ржљивости</a:t>
            </a:r>
            <a:r>
              <a:rPr b="0" lang="it-IT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 g/kg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м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ови снаге и брзине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 до 1,8 g/kg т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дибилдинг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до 3 g/kg т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временој исхрани унос протеина учествује са ок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о 15% 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%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г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оријског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малн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 са протеинима или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а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0" y="1066680"/>
          <a:ext cx="9144000" cy="6195960"/>
        </p:xfrm>
        <a:graphic>
          <a:graphicData uri="http://schemas.openxmlformats.org/drawingml/2006/table">
            <a:tbl>
              <a:tblPr/>
              <a:tblGrid>
                <a:gridCol w="2286000"/>
                <a:gridCol w="3429000"/>
                <a:gridCol w="1981080"/>
                <a:gridCol w="1447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п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н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ј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жељени</a:t>
                      </a:r>
                      <a:r>
                        <a:rPr b="1" lang="sr-Latn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фек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во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каза</a:t>
                      </a:r>
                      <a:r>
                        <a:rPr b="1" lang="sr-Latn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sr-Latn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т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и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у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о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инокисел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з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ењ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болич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2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-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н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тез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ноз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фе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шићи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сидан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стезиј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C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лаж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н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в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ржљив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њуј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градњ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та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енција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иј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нираних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етљиви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с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 са протеинима ил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а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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птофан, прекурсор серотон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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арагин, аргин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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нитин, лизин и аргин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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роз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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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тиче негативно на ф-ју бубрега, углавном безбедн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ако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ферирај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мом проте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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 није забрањена од стране W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корис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ирање 3 - 6 г есенцијалних аминокиселина или 18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а сурутке након вежбања стимулише синтезу проте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времено узимање угхљених хидрата и протеина након вежбања стимулише синтезу протеина, убрзава опоравак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о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 унос пуновредних протеина повлачи за соб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 и веће количине масти. Могу бити корисни у циљу задовољењ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их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м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уноса непотребних ма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Ергогена сред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3" name="Picture 6" descr="QCJYF00Z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664" name="Content Placeholder 2"/>
          <p:cNvSpPr/>
          <p:nvPr/>
        </p:nvSpPr>
        <p:spPr>
          <a:xfrm>
            <a:off x="0" y="1066680"/>
            <a:ext cx="80773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0504d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Поступак који мозе д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повећа спортск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рформанс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0504d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За многе суплементе с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сматра да повољно делуј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кофе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натријум-хидроген карбон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креат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ш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њуј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дстављај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љиви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о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о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ни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м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ајнирани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ај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ени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и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м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ил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ул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сиц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пул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чиц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м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актив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рикс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о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ш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бичајени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ам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дневној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рани</a:t>
            </a:r>
            <a:r>
              <a:rPr b="0" lang="h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Историјат примене ергогених средстав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Дуготрајан (500-400 п.н.е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Не мање од 40 % спортиста их користи, не мање од  600 д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портск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схран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оистовећује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употребом ДС и ергогених средста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Кофе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0" y="609480"/>
            <a:ext cx="624852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ш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еоли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уч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рање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04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гогено сред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ониторинг листи W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5 mcg/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шољица кафе = 100mg = 1.5 mcg/ml          ури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гогени ефекат доказ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А дијететских суплемена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9" name="Picture 7" descr="9684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ФЕИН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ж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но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р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м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же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максимал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&gt; 90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г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зитета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-60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трај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рамаксимал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-5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овим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ржљивост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н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ов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овим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г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ФЕИН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и ефек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омн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хикард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3 мг/кг телесне масе, 60 мин п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а/такмич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енерација АТР током физичке активнос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ише се у јетри, бубрезима и панкреасу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арни</a:t>
            </a:r>
            <a:r>
              <a:rPr b="0" lang="it-IT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</a:t>
            </a:r>
            <a:r>
              <a:rPr b="0" lang="it-IT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</a:t>
            </a:r>
            <a:r>
              <a:rPr b="0" lang="it-IT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it-IT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кладиштен у мишићима и јетр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стљивост се може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ти узимањем уз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ок или уз угљене хидрат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ује се урином као креатинин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6" name="Picture 3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2971800" cy="10000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" descr=""/>
          <p:cNvPicPr/>
          <p:nvPr/>
        </p:nvPicPr>
        <p:blipFill>
          <a:blip r:embed="rId2"/>
          <a:stretch/>
        </p:blipFill>
        <p:spPr>
          <a:xfrm>
            <a:off x="6172200" y="3733920"/>
            <a:ext cx="2971800" cy="100008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5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971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гогени ефекат доказ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 мишићну масу и снагу током тренин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 перформансе код појединачних или поновљених спринт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 синтезу гликог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 капацитет физичке актив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 толеранција на трен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ђ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ни нежељени ефек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А дијететских суплемен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И СУПЛЕМЕНТАЦИЈЕ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О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ЊЕЊЕ/ОДРЖА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-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5г/дневно након т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НИСКИХ Д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5г/дневно у периоду тренир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НИ ПРОТОК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њење и одржавање током тренирања, без креатина током пауз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КАРБОНАТИ И ЦИТРА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у метаболичку ацидозу након напорног вежб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икарбон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н ергогени ефекат у тренингу високог интенз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ивање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чање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овљени спринт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чање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г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зитета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ању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цик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ни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р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ању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е 0.3г/кг соде бикарбоне 1-2х пре тренинга/такмич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и ефекти: ГИ смет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итрати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на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а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користе 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0" y="1828440"/>
            <a:ext cx="9144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стизање ергогеног ефекта користити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е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одговарајући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и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у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протокол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 суплемен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0" y="990720"/>
          <a:ext cx="9144000" cy="5715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Супле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Примена</a:t>
                      </a:r>
                      <a:r>
                        <a:rPr b="1" lang="en-U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дејство</a:t>
                      </a:r>
                      <a:r>
                        <a:rPr b="1" lang="en-U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Нежељени</a:t>
                      </a:r>
                      <a:r>
                        <a:rPr b="1" lang="en-U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ефек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Ниво</a:t>
                      </a:r>
                      <a:r>
                        <a:rPr b="1" lang="en-U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доказа</a:t>
                      </a:r>
                      <a:r>
                        <a:rPr b="1" lang="en-U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стат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цер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перхидратацион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зм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спанд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регула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T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о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љ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6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-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нит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кто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боличк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ич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болиза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ити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ољшањ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ењ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T-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а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ећ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а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јен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ен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к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онална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њују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е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оке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се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знаку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«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јететски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племент</a:t>
            </a:r>
            <a:r>
              <a:rPr b="1" lang="en-US" sz="3200" spc="-1" strike="noStrike" u="sng">
                <a:solidFill>
                  <a:srgbClr val="898989"/>
                </a:solidFill>
                <a:uFillTx/>
                <a:latin typeface="Calibri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анична изјава UK Спорт о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и дијететских суплемената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К спорт, Британска Олимпијска Асоцијација (БОА), Британска Параолимпијска Асоцијација (БПА), Национални Институт за Медицину Спорта (НСМИ) и Home Country Sports Councils (HCS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shed by RFUW Press 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авет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портистима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K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еби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пл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стима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етује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зетно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зриви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 употребе било ког дијететског суплемен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стоје никакве гаранције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ући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е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е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ргогена средства, биљне суплементе, не садрже забрањене супстанцe, с обзиром да ови прозводи нису подрвгнути стриктним стандардима производње и обележавања, као ододбрени леков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правилно вршити суплементацију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но балансирану диј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ње енергетске равноте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ни приступ у суплементац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стизање ергогеног ефекта користити само суплементе који имај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ом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зорити спортисту да велики број суплемената (готово 20%) је контаминиран неком од недозвољених супстанци. Примена ових суплемената носи ризик по здравље и могућу појаву позитивног допинг те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ОВИ СНАГЕ И БРЗИН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 до висок унос проте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овредни протеини, аминокиселине након тренин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а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ација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ски нап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гогена сре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карбонати/ цитр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ОВИ ИЗДРЖЉИВОСТ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и унос енергије-угљених хидр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ртски гелови, чоколадице, суплементи у течном облику-обр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а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ација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ски напи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 дефици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цијум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тивитамини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инер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гогена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фе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икарбонати/цитра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ци суплементације у спорту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знавање очекиваног дел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минација суплемената недозвољеним супстанц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учесност тренера или лекара или спортисте о деловању суплемен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дистрибуције- теретане, интер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Листа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контаминената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дс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абрањених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тране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МОК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Ефедр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Стрихн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Андростендион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андростендиол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дехидроепиандростеро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19-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норандростендион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19-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норандростендиол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позитиван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тест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метаболит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нандрол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Нандролон</a:t>
            </a:r>
            <a:r>
              <a:rPr b="1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(15 %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тестираних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г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садржавало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количини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довољној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покаж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позитивну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допинг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реакцију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Информисаност</a:t>
            </a:r>
            <a:r>
              <a:rPr b="1" lang="sr-Latn-C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о</a:t>
            </a:r>
            <a:r>
              <a:rPr b="1" lang="sr-Latn-C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листи</a:t>
            </a:r>
            <a:r>
              <a:rPr b="1" lang="sr-Latn-C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забрањених</a:t>
            </a:r>
            <a:r>
              <a:rPr b="1" lang="sr-Latn-C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средст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2" name="Object 2" descr=""/>
          <p:cNvPicPr/>
          <p:nvPr/>
        </p:nvPicPr>
        <p:blipFill>
          <a:blip r:embed="rId1"/>
          <a:stretch/>
        </p:blipFill>
        <p:spPr>
          <a:xfrm>
            <a:off x="0" y="1143000"/>
            <a:ext cx="4648320" cy="1981080"/>
          </a:xfrm>
          <a:prstGeom prst="rect">
            <a:avLst/>
          </a:prstGeom>
          <a:ln w="0">
            <a:noFill/>
          </a:ln>
        </p:spPr>
      </p:pic>
      <p:pic>
        <p:nvPicPr>
          <p:cNvPr id="703" name="Object 4" descr="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4" name="Object 5"/>
          <p:cNvGraphicFramePr/>
          <p:nvPr/>
        </p:nvGraphicFramePr>
        <p:xfrm>
          <a:off x="5072040" y="1066680"/>
          <a:ext cx="407196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2040" y="1066680"/>
                    <a:ext cx="40719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6" name="TextBox 6"/>
          <p:cNvSpPr/>
          <p:nvPr/>
        </p:nvSpPr>
        <p:spPr>
          <a:xfrm>
            <a:off x="1634040" y="762120"/>
            <a:ext cx="772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ра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TextBox 7"/>
          <p:cNvSpPr/>
          <p:nvPr/>
        </p:nvSpPr>
        <p:spPr>
          <a:xfrm>
            <a:off x="6206040" y="685800"/>
            <a:ext cx="7722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ра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DA International Symposi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Supplements in 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2908440" cy="1592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"/>
          <p:cNvPicPr/>
          <p:nvPr/>
        </p:nvPicPr>
        <p:blipFill>
          <a:blip r:embed="rId3"/>
          <a:stretch/>
        </p:blipFill>
        <p:spPr>
          <a:xfrm>
            <a:off x="0" y="1447920"/>
            <a:ext cx="9144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кључ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државањ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нергетск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внотеж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италног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начај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тималн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ортск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форман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идратациј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љу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ржава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исо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нос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Х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ељ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кмич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користи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вак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гућност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орава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з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дговарајућ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хра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ма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ве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зерв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ортск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околадиц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исоким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држајем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Х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те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ати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преда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енирањ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ажи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моћ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реирањ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хран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енинг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кмичењ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колико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реб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943600" cy="15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пинг у спор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orld Anti-Doping Co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200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HIBITED LI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ATION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NDAR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fficial text of the Prohibited List shall be mainta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Picture 4" descr="http://t3.gstatic.com/images?q=tbn:ANd9GcQ35R3BOUy1F2Q9wD3Krpp7NJHN2o1rQb802uwkC4PAWOZ58YKMDw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43434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0" descr=""/>
          <p:cNvPicPr/>
          <p:nvPr/>
        </p:nvPicPr>
        <p:blipFill>
          <a:blip r:embed="rId2"/>
          <a:stretch/>
        </p:blipFill>
        <p:spPr>
          <a:xfrm>
            <a:off x="6235560" y="5265720"/>
            <a:ext cx="290844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x alimentariu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зација намирница (GSF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њене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е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тивне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6 Дијететски суплем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ске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не дијететске суплемент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/GL 55 – 20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 за нутритивне и здравствене изј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/GL 23-1997, Rev. 1-2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ив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тивно декларисање, адитиви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пинг у спор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0" y="9144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ве супстанце или методе које спортисту доводе у нефер предност у односу на ривала без обзира на тренинг или тален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зна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ош у старој Грчкој и Рим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Picture 4" descr="http://t3.gstatic.com/images?q=tbn:ANd9GcQ35R3BOUy1F2Q9wD3Krpp7NJHN2o1rQb802uwkC4PAWOZ58YKMDw"/>
          <p:cNvPicPr/>
          <p:nvPr/>
        </p:nvPicPr>
        <p:blipFill>
          <a:blip r:embed="rId1"/>
          <a:stretch/>
        </p:blipFill>
        <p:spPr>
          <a:xfrm>
            <a:off x="0" y="3733920"/>
            <a:ext cx="3886200" cy="312408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6"/>
          <p:cNvSpPr/>
          <p:nvPr/>
        </p:nvSpPr>
        <p:spPr>
          <a:xfrm>
            <a:off x="3886200" y="3774960"/>
            <a:ext cx="5257800" cy="276084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963. Прва дефинициј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упстанца која нарушава спортску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тику, доводи до побољшања спортске способности, али и до патофизиолошког и психичког нарушавања здрављ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јпознатија допинг сред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0" y="914400"/>
            <a:ext cx="5943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наболи</a:t>
            </a: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ки  стероид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тестостерон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ианабол, нандрололон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овање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већање мишић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наге и ма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жељени ефекти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метаболизам масти, 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нашањ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већана агресивност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КВО,  стерилит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7" name="Picture 11" descr="steroids"/>
          <p:cNvPicPr/>
          <p:nvPr/>
        </p:nvPicPr>
        <p:blipFill>
          <a:blip r:embed="rId1"/>
          <a:stretch/>
        </p:blipFill>
        <p:spPr>
          <a:xfrm>
            <a:off x="5934240" y="914400"/>
            <a:ext cx="3209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Хормони и сродне супстанце-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хормон раста, еритропоетин, инсулин и кортикотроп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Деловање: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повећање мишићне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масе, крвних ћелија, убрзање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    метаболизма ћел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Нежељени ефекти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акромегалија,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метаболичке промене,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неуролошке абнормал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Title 1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omic Sans MS"/>
              </a:rPr>
              <a:t>Најпознатија допинг сред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3" name="Picture 9" descr="HGH_baseball"/>
          <p:cNvPicPr/>
          <p:nvPr/>
        </p:nvPicPr>
        <p:blipFill>
          <a:blip r:embed="rId1"/>
          <a:stretch/>
        </p:blipFill>
        <p:spPr>
          <a:xfrm>
            <a:off x="0" y="2895480"/>
            <a:ext cx="4876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Title 1"/>
          <p:cNvSpPr/>
          <p:nvPr/>
        </p:nvSpPr>
        <p:spPr>
          <a:xfrm>
            <a:off x="0" y="0"/>
            <a:ext cx="914400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omic Sans MS"/>
              </a:rPr>
              <a:t>Најпознатија допинг сред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8" name="Picture 9" descr="Body_building"/>
          <p:cNvPicPr/>
          <p:nvPr/>
        </p:nvPicPr>
        <p:blipFill>
          <a:blip r:embed="rId1"/>
          <a:stretch/>
        </p:blipFill>
        <p:spPr>
          <a:xfrm>
            <a:off x="5486400" y="1676520"/>
            <a:ext cx="3657600" cy="5181480"/>
          </a:xfrm>
          <a:prstGeom prst="rect">
            <a:avLst/>
          </a:prstGeom>
          <a:ln w="0">
            <a:noFill/>
          </a:ln>
        </p:spPr>
      </p:pic>
      <p:sp>
        <p:nvSpPr>
          <p:cNvPr id="739" name="Content Placeholder 2"/>
          <p:cNvSpPr/>
          <p:nvPr/>
        </p:nvSpPr>
        <p:spPr>
          <a:xfrm>
            <a:off x="0" y="1752480"/>
            <a:ext cx="5486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Β-агонисти-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кленбутеро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овање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већање мишићне масе, анаболик, липолит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жељени ефек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убрзани раст срца, инфаркт, психоз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Comic Sans MS"/>
              </a:rPr>
              <a:t>смртни случајеви-боди билдин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AutoShape 11"/>
          <p:cNvSpPr/>
          <p:nvPr/>
        </p:nvSpPr>
        <p:spPr>
          <a:xfrm>
            <a:off x="4648320" y="4952880"/>
            <a:ext cx="1143000" cy="152640"/>
          </a:xfrm>
          <a:prstGeom prst="rightArrow">
            <a:avLst>
              <a:gd name="adj1" fmla="val 50000"/>
              <a:gd name="adj2" fmla="val 187205"/>
            </a:avLst>
          </a:prstGeom>
          <a:solidFill>
            <a:srgbClr val="c0504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нтиестрогени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кломиф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овање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абол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жељени ефек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јетра, вид, кож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иуретици и други маскирајући агенси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фуросемид/финастер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овање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стизање телесне масе у борилачким спортовима/маскирање других допинг сред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жељени ефек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умор, грчеви, повраћање, поремећај в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Title 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omic Sans MS"/>
              </a:rPr>
              <a:t>Најпознатија допинг сред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0" y="12189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Стимуланси –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амфетамин, ефедрин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(на листи се налази 60 супстанци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⃰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omic Sans MS"/>
              </a:rPr>
              <a:t>Деловање-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, повећава концентрацију и пажњу, смањује бо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omic Sans MS"/>
              </a:rPr>
              <a:t>Нежељени ефекти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– убрзани срчани рад, хипертензија рабдомиолиза,  мождани,  срчани уда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Title 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omic Sans MS"/>
              </a:rPr>
              <a:t>Најпознатија допинг сред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9" descr="Before+After-2"/>
          <p:cNvPicPr/>
          <p:nvPr/>
        </p:nvPicPr>
        <p:blipFill>
          <a:blip r:embed="rId1"/>
          <a:stretch/>
        </p:blipFill>
        <p:spPr>
          <a:xfrm>
            <a:off x="2438280" y="4572000"/>
            <a:ext cx="3657600" cy="228600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10"/>
          <p:cNvSpPr/>
          <p:nvPr/>
        </p:nvSpPr>
        <p:spPr>
          <a:xfrm>
            <a:off x="1219320" y="54100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Text Box 11"/>
          <p:cNvSpPr/>
          <p:nvPr/>
        </p:nvSpPr>
        <p:spPr>
          <a:xfrm>
            <a:off x="914400" y="3733920"/>
            <a:ext cx="7315200" cy="11912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...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⃰и друге супстанце са слицном хемијском структуром и сличним биолошким ефекти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тода М1- побољшање транспорта кисео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Крвни допинг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Вештачко побољшање узимања, транспорта и испоруке кисеони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овање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вецање конц. O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VO2 ma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жељени ефек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мали, кожна реакција, алерг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утолога трансфузија се не мозе детектовати!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тода М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генски допин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Title 1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omic Sans MS"/>
              </a:rPr>
              <a:t>Најпознатија допинг сред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itle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Content Placeholder 2"/>
          <p:cNvSpPr/>
          <p:nvPr/>
        </p:nvSpPr>
        <p:spPr>
          <a:xfrm>
            <a:off x="-152280" y="175248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Антидопинг</a:t>
            </a:r>
            <a:r>
              <a:rPr b="0" lang="vi-VN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агенција</a:t>
            </a:r>
            <a:r>
              <a:rPr b="0" lang="vi-VN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Републике</a:t>
            </a:r>
            <a:r>
              <a:rPr b="0" lang="vi-VN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Србије</a:t>
            </a:r>
            <a:r>
              <a:rPr b="0" lang="vi-VN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обављ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допинг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контрол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међународним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националним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такмичењим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као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зван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такмичењ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2006.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годин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оред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националних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портских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социјациј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нтидопинг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генцију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Републик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рбиј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провођењ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допинг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контрол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ротеклом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ериоду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нгажовал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међународн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портск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федерациј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као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што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FIBA, UIAA, IAAF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друг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1" name="Picture 10" descr="http://t2.gstatic.com/images?q=tbn:ANd9GcSVTQb9MgrliQAyHjR_lyeqb2p1HWH4Im4dAksN2O6EiG9d-XFz1A"/>
          <p:cNvPicPr/>
          <p:nvPr/>
        </p:nvPicPr>
        <p:blipFill>
          <a:blip r:embed="rId1"/>
          <a:stretch/>
        </p:blipFill>
        <p:spPr>
          <a:xfrm>
            <a:off x="2514600" y="0"/>
            <a:ext cx="4267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орисни линк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3809520" y="1447920"/>
            <a:ext cx="5334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ttp://www.adas.org.rs/dokumenti/podzakonski-akti/pravilnik-o-lzs-2010.pd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ttp://www.wada-ama.org/rtecontent/document/2009_Prohibited_List_ENG_Final_20_Sept_08.pd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ausport.gov.au/a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4" name="Picture 2" descr="http://t2.gstatic.com/images?q=tbn:ANd9GcSVTQb9MgrliQAyHjR_lyeqb2p1HWH4Im4dAksN2O6EiG9d-XFz1A"/>
          <p:cNvPicPr/>
          <p:nvPr/>
        </p:nvPicPr>
        <p:blipFill>
          <a:blip r:embed="rId1"/>
          <a:stretch/>
        </p:blipFill>
        <p:spPr>
          <a:xfrm>
            <a:off x="6172200" y="0"/>
            <a:ext cx="2666880" cy="144792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6" descr="no-doping"/>
          <p:cNvPicPr/>
          <p:nvPr/>
        </p:nvPicPr>
        <p:blipFill>
          <a:blip r:embed="rId2"/>
          <a:stretch/>
        </p:blipFill>
        <p:spPr>
          <a:xfrm>
            <a:off x="0" y="990720"/>
            <a:ext cx="3733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ај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ј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т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рдит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твор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ник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ељн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м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ч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ј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х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љањ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о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иви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у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ске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је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2/46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2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н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ед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ћ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но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н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ћ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жишт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ават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ког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8:58:44Z</dcterms:created>
  <dc:creator>brizita</dc:creator>
  <dc:description/>
  <dc:language>en-US</dc:language>
  <cp:lastModifiedBy>Vladimir Jakovljevic</cp:lastModifiedBy>
  <dcterms:modified xsi:type="dcterms:W3CDTF">2018-10-29T07:35:49Z</dcterms:modified>
  <cp:revision>107</cp:revision>
  <dc:subject/>
  <dc:title>SPORTSKA ISHRANA</dc:title>
</cp:coreProperties>
</file>